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BC99D-3746-4B42-A2B5-6566DA06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BE53-DCBC-4DAC-9672-F13DA970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BFE9-A8EC-4A3F-B0E3-CF8BEAAC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03232-4328-4E37-A079-889A0AC8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4CBC-F158-4FF2-8699-DE0FAFA5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E256-68A7-4B47-8193-42DF6B00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551A-298E-437D-AE06-FCB4AE57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522A-56B9-4A3D-8482-FC27DCAF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8074-AA24-4839-98D1-D726F1AB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3931-34A8-4B65-86EB-93D2CAEC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9D29-B595-4E9A-97BE-8490000B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0AA6-8104-4264-9188-FF1A98C2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FAC8-F89C-4809-86DA-4EE331EC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370D-6D71-4BCF-8137-58C8AEFB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38C0-0922-4AB9-9F22-49E4CF59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0F49-90C6-4EB9-8FEB-BF6B01F7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209C-B0BA-47E6-9B34-319AC314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5D21E-C869-489F-BCB7-EFDC1EC9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EBD6C-1E62-435B-9074-412BCF96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0D52-FC3C-4B07-9728-B5105D60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6E60-3D82-405F-BD31-0460C14A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264B9-AFCE-4842-8D35-C12B90FD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578F-C4B7-4AF7-8778-DD4B735F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8BCB-9C13-45F4-8966-9E18E5B2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D9AF-191E-4C9D-8704-C2A30F61B02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BE99-E626-4932-9A08-9464B21BF76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74412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велики Боже наш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хвалим Твойта всемощ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йта милост всяког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с закриля денем и нощ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в начало бе любов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й оставаш в век веков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1033200"/>
            <a:ext cx="914400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ее херувимски лик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оклон пред Тебе прави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небеса Си Ти велик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о там Теб пее, слав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нгелският хор вести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Свят, свят, свят Си, Боже,  Ти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1041120"/>
            <a:ext cx="914400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целия световен шар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бществото Ти във общ хор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и Тебе, своя Цар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дно с тез от горния двор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о Теб ще велича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царството Ти, в славний р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8-29T15:08:25Z</dcterms:modified>
  <cp:revision>6</cp:revision>
  <dc:subject/>
  <dc:title>Slide 1</dc:title>
</cp:coreProperties>
</file>